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3520-1095-43CB-B7F2-7EAE1909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8EB6-231D-4AB7-A0B8-C7DD58A2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F3C6-6AC0-40C8-9F94-CE80DB1F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2C88-AB44-47DC-9439-F190AEC8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B248-CA87-4EB0-9717-8A3FD5D0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FEAE-1DBD-4E74-BA9F-EB8922D9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B6EC-BE30-4B5F-B0B2-F8307EBD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CB9D-4EFB-40DD-836F-D3898DE5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4149-D6F0-4D2C-83AD-A4894521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7CC8-52F1-4C5D-964A-F642300C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BC7D-CAF8-48CC-94DE-67BC6411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9B4E-99D1-4346-90F1-DBFB3488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9770-7927-4681-86EF-DA3A9EF49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2. Temporaalloogik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alloogika mõiste hõlmab laiemalt kõiki lähenemisi, kus loogika struktuuri tuuakse sisse ajalise info esitused, ja kitsamalt modaalloogilist lähenemist, mis algselt võeti kasutusele ajaloogika (Tense Logic) nime 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 kus kehtivad kaks ajalise järelduse reegl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: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õestusest saab tuletada H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õest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G: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õestusest saab tuletada G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õest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 muidugi kõik tavalise lausearvutuse reegl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oreemid väljendavad ajaoperaatorite neid omadusi, mis ei sõltu mingitest eeldustest ajalise järjestuse koh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aloogika saadakse ajaoperaatorite lisamisega olemasolevale loogikale. Samamoodi nagu lausearvutusele, võime lisada need ka predikaatarvutuse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.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uset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osoof saab kuningaks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õib tõlgendada mitmel erineval mo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(Filosoof(x) &amp; Kuningas(x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gi, kes on praegu filosoof, saab mingil ajal tulevikus kuningak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(Filosoof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amp; Kuningas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egu on olemas keegi, kes mingil ajal tulevikus on nii filosoof kui kuninga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losoof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amp; F Kuningas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kkab olemas olema keegi, kes on filosoof ja kellest saab hiljem kuninga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losoof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amp; Kuningas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kkab olemas olema keegi, kes on nii filosoof kui kuninga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te tõlgendamisel on väga oluline, et kvantorite mõjupiirkond sõltub ajast.Võetakse kasutusele kvantorite mõjupiirkond D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ja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o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 Ajaloogika laiend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arsed ajaoperaatorid S ja U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“alates” ja “kuni”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q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olnud tõene alates ajast, kui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q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selle ajani, kui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riline ajaloogika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avahemiku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ärast hakkab kehtima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 saame oleviku. Võime üldised operaatorid ümber defineeri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 &amp; F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 &amp; F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ärgmise hetke” operaator 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eld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takse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 ajajadad koosnevad diskreetsetest atomaarsetest ajaühikutest. O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ähendab, et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vahetult järgneval ajaühik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eeldame, et aeg on diskreetne, siis võime operaatori O defineerida n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.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kkab olema tõene mingil hetkel tulevikus, ning selle hetke ja oleviku vahel ei ole miski tõe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 Ajaloogika semantik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alne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raam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osneb hulgast T, mis on “aegade” hulk, ja järjestusseosest &lt; hulgal T, mis defineerib aja liikumi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aloogika keele interpretatsioon määrab tõeväärtuse igale aatomvalemile igal ajahetkel antud ajalises raamis. Siis võime defineerida nõrkade ajaoperaatorite tähendused järgmisel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is võime defineerida nõrkade ajaoperaatorite tähendused järgmisel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hetkel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is ja ainult siis, kui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mingil ajal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, kus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’&lt;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hetkel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is ja ainult siis, kui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mingil ajal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, kus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’&gt;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 nende kaudu tugevate ajaoperaatorite tähend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õene hetkel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is ja ainult siis, kui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kõikidel aegadel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’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s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’&lt;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hetkel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is ja ainult siis, kui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kõikidel aegadel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’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s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’&gt;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alloogikat kasutatakse aega puudutavate filosoofiliste küsimuste esitamiseks ja selgitamiseks, loomulike keelte ajaväljendite semantika defineerimisel, intellektitehnikas aja kohta käivate teadmiste kirjelduskeelena, arvutiprogrammide täitmise aja-aspektide käsitlemise vahendina j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üüd võime öelda, et K</a:t>
            </a:r>
            <a:r>
              <a:rPr b="0" lang="en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oreemid on täpselt sellised valemid, mis on tõesed kõigil aegadel kõikides interpretatsioonides ja kõikide temporaalsete raamide jao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ikaatarvutuslik lähenemi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Temporaalsed argumend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aline aspekt tuuakse sisse, lisades igale ajamuutujatega lausele või predikaadile veel ühe argumend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ll (Brutus, Caesar, 44B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ame esimest järku keelde infikspredikaadi &lt;, mis tähendab ajalist järjestust “varem kui” ja konstandi “praegu”, mis tähistab käesolevat hetke. Tähistagu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ulemust, mis saadakse aja-argumendi lisamisel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 esinevatesse predikaatidesse, si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raegu &amp;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aegu&lt;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raegu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aegu&lt;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Seisundi- ja sündmusetüüb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alsete argumentide meetodit kasutades tekivad raskused, kui tahetakse eristada näiteks seisundeid, sündmusi ja protses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setel, mis kirjeldavad seisundit (“Mari magab”) on homogeenne ajaline loomus, s.t. kui nad kehtivad mingi ajavahemiku jaoks, siis kehtivad nad ka selle vahemiku kõigi alamvahemike jaok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iselt poolt, lausetel, mis kirjeldavad sündmusi (“Jaan kõnnib jaama”), on mittehomogeenne loomus, s.t. lause ei kehti vahemiku kõigi alamvahemike jao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isundi- ja sündmuse-tüüpi protsesside meetodis kirjeldatakse nii seisundi- kui sündmusetüüpe esimest järku teooria terminites ja nende temporaalset loomust väljendatakse relatsiooniliste predikaatide “Kehtib” ja “Ilmneb” kaud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htib(Magab(Mari), (13.00,18.00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mneb(Kõnnib(Jaan,jaam), (13.00,13.15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isundite homogeensus ja sündmuste mittehomegeensus on kindlustatud aksioomid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i,i’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ehtib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i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amp; Vahe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’,i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htib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i’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,i,i′(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mneb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,i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amp; Vahe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′,i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→ ¬Ilmneb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,i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aalloogiline lähenemin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jaloogik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aloogika keel sisaldab lisaks tavalistele operaatoritele nelja modaalset operaatorit, mille tähendused on järgmi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: “Mõnda aega on kehtinud, et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: “Mingil hetkel hakkab kehtima, et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: “Alati on kehtinud, et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: “Alati hakkab kehtima, et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ja F nimetatakse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õrkadeks ajaoperaatoriteks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ja G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gevateks ajaoperaatoriteks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valiseks loetakse, et kehtivad samaväärs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teid valemites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Mis alati on, see 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t järeldub alati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is juhul kui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ati kehtib, kehtib ka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F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kkab mingil hetkel kehtima, siis hakkab vahepeal kehtima, et ta hakkab kehtim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i hakka kunagi kehtima, siis hakkab kehtima, et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i hakka kunagi kehtim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oodud ja uuritud erinevaid ajaloogika süsteeme, valides erinevaid aksioomide kombinatsioo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.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alne ajaloogika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0" lang="en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ille genereerivad neli aksioom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F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htiva kohta on alati kehtinud, et see hakkab kehtim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htiv on alati kehtinu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, mis alati järeldub sellest, mis on alati kehtinud, on alati kehtinu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, mis alati järeldub sellest, mis alati hakkab kehtima, hakkab alati kehtim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1T09:37:19Z</dcterms:created>
  <dc:creator>Tiina Zingel</dc:creator>
  <dc:description/>
  <dc:language>en-US</dc:language>
  <cp:lastModifiedBy>Tiina Zingel</cp:lastModifiedBy>
  <dcterms:modified xsi:type="dcterms:W3CDTF">2006-05-11T09:38:59Z</dcterms:modified>
  <cp:revision>1</cp:revision>
  <dc:subject/>
  <dc:title>11.2. Temporaalloogika.</dc:title>
</cp:coreProperties>
</file>